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7BF-28EA-40B9-A91A-C4C81B97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5B1-DF6D-44B4-9496-69AA789C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AFD-0D0B-4366-B5A3-20D1A1E3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82E-408E-4BB8-B59D-B03A9045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97E2-8A14-4A11-A365-F598F1A6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AB5-B736-4F64-86F2-14552B8B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96C7-B131-4C4A-BB8A-AF917785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BAB9-D0A7-494E-A175-B9ABEAC4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22D2-A56A-4F5F-B80D-69B72D92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72B9-44DE-44A7-8527-0C081520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C024-0946-4546-9771-94D00CC6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B68F-D7D0-46C0-9D58-D6459ACC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971A-D725-4F1D-8783-B848064B5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990720"/>
            <a:ext cx="5829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219320" y="3200400"/>
            <a:ext cx="4800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lving Quadratic Equations by Finding Square Ro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336600" y="685800"/>
            <a:ext cx="2654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 = -16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124080" y="685800"/>
            <a:ext cx="914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h 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Gothic"/>
              </a:rPr>
              <a:t>o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886200" y="68580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9 f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153 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886080" y="2057400"/>
            <a:ext cx="29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9 = -16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+ 1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312120" y="2438280"/>
            <a:ext cx="289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-153          -1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262800" y="3048120"/>
            <a:ext cx="23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-144 = -16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228600" y="3124080"/>
                <a:ext cx="12841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1447920" y="3048120"/>
                <a:ext cx="12841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Rectangle 1"/>
          <p:cNvSpPr/>
          <p:nvPr/>
        </p:nvSpPr>
        <p:spPr>
          <a:xfrm>
            <a:off x="3429000" y="3200400"/>
            <a:ext cx="11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9 = 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4913640" y="3809880"/>
            <a:ext cx="191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3sec =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-54720" y="4419720"/>
            <a:ext cx="667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 both answers make sen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ight Arrow 13"/>
          <p:cNvSpPr/>
          <p:nvPr/>
        </p:nvSpPr>
        <p:spPr>
          <a:xfrm>
            <a:off x="2743200" y="3276720"/>
            <a:ext cx="762120" cy="30456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ight Arrow 14"/>
          <p:cNvSpPr/>
          <p:nvPr/>
        </p:nvSpPr>
        <p:spPr>
          <a:xfrm rot="2493000">
            <a:off x="4652640" y="3490920"/>
            <a:ext cx="7621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08 0.00973 L -0.37546 -0.04652 C -0.41689 -0.0592 -0.47986 -0.06527 -0.5449 -0.06527 C -0.61805 -0.06527 -0.67777 -0.0592 -0.71921 -0.04652 L -0.9162 0.00973 E">
                                      <p:cBhvr>
                                        <p:cTn id="38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514920" cy="53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science competition students must design a container that prevents an egg from breaking when dropped from a height of 28.8 meters.  How long does the container take to hit the groun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80880" y="5715000"/>
            <a:ext cx="539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Century Gothic"/>
              </a:rPr>
              <a:t>What are you asked to fi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04920" y="6324480"/>
            <a:ext cx="624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Century Gothic"/>
              </a:rPr>
              <a:t>What function are going to u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911920" y="5715000"/>
            <a:ext cx="94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881880" y="6959520"/>
            <a:ext cx="242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 = -5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490320" y="533520"/>
            <a:ext cx="242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 = -5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276720" y="533520"/>
            <a:ext cx="220968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h = 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Gothic"/>
              </a:rPr>
              <a:t>o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=28.8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-3322080" y="3124080"/>
            <a:ext cx="27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0 = -5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+ 28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77640" y="205740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-28.8        -28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80880" y="266688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-28.8= -5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357120" y="2819520"/>
                <a:ext cx="1027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3"/>
              <p:cNvSpPr txBox="1"/>
              <p:nvPr/>
            </p:nvSpPr>
            <p:spPr>
              <a:xfrm>
                <a:off x="1371600" y="2819520"/>
                <a:ext cx="1027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Rectangle 10"/>
          <p:cNvSpPr/>
          <p:nvPr/>
        </p:nvSpPr>
        <p:spPr>
          <a:xfrm>
            <a:off x="3577680" y="2743200"/>
            <a:ext cx="175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5.76 = 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3913560" y="3809880"/>
            <a:ext cx="23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2.4 sec =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-54720" y="4419720"/>
            <a:ext cx="667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 both answers make sen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Arrow 13"/>
          <p:cNvSpPr/>
          <p:nvPr/>
        </p:nvSpPr>
        <p:spPr>
          <a:xfrm>
            <a:off x="2666880" y="2895480"/>
            <a:ext cx="7621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ight Arrow 14"/>
          <p:cNvSpPr/>
          <p:nvPr/>
        </p:nvSpPr>
        <p:spPr>
          <a:xfrm rot="2493000">
            <a:off x="5186520" y="3338640"/>
            <a:ext cx="761760" cy="3045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88 0.07083 C 0.07407 -0.05538 0.18403 -0.1816 0.28403 -0.21927 C 0.3838 -0.25694 0.51829 -0.16597 0.56412 -0.15521 E">
                                      <p:cBhvr>
                                        <p:cTn id="459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0" y="1447920"/>
            <a:ext cx="6629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number 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a 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Square Root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a number 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f 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0" y="47242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ymbol is a radical sign; the number </a:t>
            </a: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beneath the radical sign is the radic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3"/>
          <p:cNvGrpSpPr/>
          <p:nvPr/>
        </p:nvGrpSpPr>
        <p:grpSpPr>
          <a:xfrm>
            <a:off x="0" y="2895480"/>
            <a:ext cx="6553080" cy="1632240"/>
            <a:chOff x="0" y="2895480"/>
            <a:chExt cx="6553080" cy="1632240"/>
          </a:xfrm>
        </p:grpSpPr>
        <p:grpSp>
          <p:nvGrpSpPr>
            <p:cNvPr id="47" name="Group 11"/>
            <p:cNvGrpSpPr/>
            <p:nvPr/>
          </p:nvGrpSpPr>
          <p:grpSpPr>
            <a:xfrm>
              <a:off x="0" y="2895480"/>
              <a:ext cx="6553080" cy="1632240"/>
              <a:chOff x="0" y="2895480"/>
              <a:chExt cx="6553080" cy="1632240"/>
            </a:xfrm>
          </p:grpSpPr>
          <p:sp>
            <p:nvSpPr>
              <p:cNvPr id="48" name="Title 1"/>
              <p:cNvSpPr/>
              <p:nvPr/>
            </p:nvSpPr>
            <p:spPr>
              <a:xfrm>
                <a:off x="0" y="2895480"/>
                <a:ext cx="6553080" cy="160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A positive number </a:t>
                </a:r>
                <a:r>
                  <a:rPr b="0" lang="en-US" sz="4000" spc="-1" strike="noStrike">
                    <a:solidFill>
                      <a:srgbClr val="c00000"/>
                    </a:solidFill>
                    <a:latin typeface="Comic Sans MS"/>
                  </a:rPr>
                  <a:t>s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 has two square roots denoted by       and          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9" name="Object 2"/>
                  <p:cNvSpPr txBox="1"/>
                  <p:nvPr/>
                </p:nvSpPr>
                <p:spPr>
                  <a:xfrm>
                    <a:off x="761760" y="3810240"/>
                    <a:ext cx="863280" cy="717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0" name="Object 3"/>
                <p:cNvSpPr txBox="1"/>
                <p:nvPr/>
              </p:nvSpPr>
              <p:spPr>
                <a:xfrm>
                  <a:off x="2666880" y="3733920"/>
                  <a:ext cx="129528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s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cxnSp>
        <p:nvCxnSpPr>
          <p:cNvPr id="51" name="Straight Arrow Connector 8"/>
          <p:cNvCxnSpPr/>
          <p:nvPr/>
        </p:nvCxnSpPr>
        <p:spPr>
          <a:xfrm flipH="1" flipV="1">
            <a:off x="1142280" y="4494960"/>
            <a:ext cx="305640" cy="3819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Straight Arrow Connector 9"/>
          <p:cNvCxnSpPr/>
          <p:nvPr/>
        </p:nvCxnSpPr>
        <p:spPr>
          <a:xfrm flipV="1">
            <a:off x="1523520" y="4266720"/>
            <a:ext cx="1753560" cy="6105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12"/>
          <p:cNvCxnSpPr/>
          <p:nvPr/>
        </p:nvCxnSpPr>
        <p:spPr>
          <a:xfrm flipH="1" flipV="1">
            <a:off x="3580920" y="4266360"/>
            <a:ext cx="915120" cy="1600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4" name="Straight Arrow Connector 14"/>
          <p:cNvCxnSpPr/>
          <p:nvPr/>
        </p:nvCxnSpPr>
        <p:spPr>
          <a:xfrm flipH="1" flipV="1">
            <a:off x="1371240" y="4342680"/>
            <a:ext cx="3201120" cy="1600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5" name="Ink 14"/>
          <p:cNvSpPr/>
          <p:nvPr/>
        </p:nvSpPr>
        <p:spPr>
          <a:xfrm>
            <a:off x="3786120" y="2154240"/>
            <a:ext cx="309600" cy="25560"/>
          </a:xfrm>
          <a:custGeom>
            <a:avLst/>
            <a:gdLst/>
            <a:ahLst/>
            <a:rect l="l" t="t" r="r" b="b"/>
            <a:pathLst>
              <a:path w="861" h="67">
                <a:moveTo>
                  <a:pt x="10517" y="5986"/>
                </a:moveTo>
                <a:cubicBezTo>
                  <a:pt x="10771" y="5986"/>
                  <a:pt x="11024" y="5986"/>
                  <a:pt x="11278" y="5986"/>
                </a:cubicBezTo>
                <a:cubicBezTo>
                  <a:pt x="11303" y="6062"/>
                  <a:pt x="11341" y="5973"/>
                  <a:pt x="11377" y="6019"/>
                </a:cubicBezTo>
                <a:cubicBezTo>
                  <a:pt x="11377" y="6030"/>
                  <a:pt x="11377" y="6041"/>
                  <a:pt x="11377" y="6052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15"/>
          <p:cNvSpPr/>
          <p:nvPr/>
        </p:nvSpPr>
        <p:spPr>
          <a:xfrm>
            <a:off x="3786120" y="2154240"/>
            <a:ext cx="298440" cy="155520"/>
          </a:xfrm>
          <a:custGeom>
            <a:avLst/>
            <a:gdLst/>
            <a:ahLst/>
            <a:rect l="l" t="t" r="r" b="b"/>
            <a:pathLst>
              <a:path w="828" h="431">
                <a:moveTo>
                  <a:pt x="10848" y="6284"/>
                </a:moveTo>
                <a:cubicBezTo>
                  <a:pt x="10945" y="6284"/>
                  <a:pt x="11027" y="6292"/>
                  <a:pt x="11079" y="6317"/>
                </a:cubicBezTo>
                <a:cubicBezTo>
                  <a:pt x="11135" y="6344"/>
                  <a:pt x="11244" y="6333"/>
                  <a:pt x="11278" y="6350"/>
                </a:cubicBezTo>
                <a:cubicBezTo>
                  <a:pt x="11334" y="6378"/>
                  <a:pt x="11322" y="6317"/>
                  <a:pt x="11344" y="6383"/>
                </a:cubicBezTo>
                <a:cubicBezTo>
                  <a:pt x="11263" y="6383"/>
                  <a:pt x="11218" y="6397"/>
                  <a:pt x="11179" y="6416"/>
                </a:cubicBezTo>
                <a:cubicBezTo>
                  <a:pt x="11067" y="6472"/>
                  <a:pt x="10682" y="6416"/>
                  <a:pt x="10616" y="6383"/>
                </a:cubicBezTo>
                <a:cubicBezTo>
                  <a:pt x="10597" y="6373"/>
                  <a:pt x="10539" y="6383"/>
                  <a:pt x="10517" y="6383"/>
                </a:cubicBezTo>
                <a:cubicBezTo>
                  <a:pt x="10517" y="6270"/>
                  <a:pt x="10517" y="6151"/>
                  <a:pt x="10550" y="6085"/>
                </a:cubicBezTo>
                <a:cubicBezTo>
                  <a:pt x="10573" y="6039"/>
                  <a:pt x="10585" y="6052"/>
                  <a:pt x="10649" y="6052"/>
                </a:cubicBezTo>
                <a:cubicBezTo>
                  <a:pt x="10723" y="6052"/>
                  <a:pt x="10774" y="6022"/>
                  <a:pt x="10848" y="6019"/>
                </a:cubicBezTo>
                <a:cubicBezTo>
                  <a:pt x="10947" y="6015"/>
                  <a:pt x="11022" y="5995"/>
                  <a:pt x="11113" y="5986"/>
                </a:cubicBezTo>
                <a:cubicBezTo>
                  <a:pt x="11124" y="5986"/>
                  <a:pt x="11135" y="5986"/>
                  <a:pt x="11146" y="5986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6172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PERTIES OF SQUARE ROO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(a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0, b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0)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2209680"/>
          <a:ext cx="6858000" cy="6248520"/>
        </p:xfrm>
        <a:graphic>
          <a:graphicData uri="http://schemas.openxmlformats.org/drawingml/2006/table">
            <a:tbl>
              <a:tblPr/>
              <a:tblGrid>
                <a:gridCol w="1905120"/>
                <a:gridCol w="2514600"/>
                <a:gridCol w="24382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OPERTY NA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ATTER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EXAMP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21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 Proper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29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otient Proper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2057400" y="3657600"/>
                <a:ext cx="22096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1905120" y="5486400"/>
                <a:ext cx="269856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4691160" y="3352680"/>
                <a:ext cx="2166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5"/>
              <p:cNvSpPr txBox="1"/>
              <p:nvPr/>
            </p:nvSpPr>
            <p:spPr>
              <a:xfrm>
                <a:off x="4343400" y="5486400"/>
                <a:ext cx="22924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25"/>
              <p:cNvSpPr txBox="1"/>
              <p:nvPr/>
            </p:nvSpPr>
            <p:spPr>
              <a:xfrm>
                <a:off x="4572000" y="3962520"/>
                <a:ext cx="9669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26"/>
              <p:cNvSpPr txBox="1"/>
              <p:nvPr/>
            </p:nvSpPr>
            <p:spPr>
              <a:xfrm>
                <a:off x="6157800" y="4038480"/>
                <a:ext cx="7002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7"/>
              <p:cNvSpPr txBox="1"/>
              <p:nvPr/>
            </p:nvSpPr>
            <p:spPr>
              <a:xfrm>
                <a:off x="5867280" y="6858000"/>
                <a:ext cx="7732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28"/>
              <p:cNvSpPr txBox="1"/>
              <p:nvPr/>
            </p:nvSpPr>
            <p:spPr>
              <a:xfrm>
                <a:off x="4343400" y="6858000"/>
                <a:ext cx="116352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0" y="304920"/>
            <a:ext cx="68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here is no equivalent property for addition and sub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990720" y="2514600"/>
                <a:ext cx="446400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1066680" y="4876920"/>
                <a:ext cx="44071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0" y="1828800"/>
                <a:ext cx="62024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       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1" name="TextBox 2"/>
          <p:cNvSpPr/>
          <p:nvPr/>
        </p:nvSpPr>
        <p:spPr>
          <a:xfrm>
            <a:off x="615960" y="53352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3809880" y="2590920"/>
                <a:ext cx="2562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457200" y="1066680"/>
                <a:ext cx="18288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4" name="TextBox 8"/>
          <p:cNvSpPr/>
          <p:nvPr/>
        </p:nvSpPr>
        <p:spPr>
          <a:xfrm>
            <a:off x="469080" y="2743200"/>
            <a:ext cx="23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t use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2"/>
              <p:cNvSpPr txBox="1"/>
              <p:nvPr/>
            </p:nvSpPr>
            <p:spPr>
              <a:xfrm>
                <a:off x="533520" y="4648320"/>
                <a:ext cx="51051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          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3"/>
              <p:cNvSpPr txBox="1"/>
              <p:nvPr/>
            </p:nvSpPr>
            <p:spPr>
              <a:xfrm>
                <a:off x="457200" y="5486400"/>
                <a:ext cx="1143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4"/>
              <p:cNvSpPr txBox="1"/>
              <p:nvPr/>
            </p:nvSpPr>
            <p:spPr>
              <a:xfrm>
                <a:off x="290520" y="3886200"/>
                <a:ext cx="21621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5"/>
              <p:cNvSpPr txBox="1"/>
              <p:nvPr/>
            </p:nvSpPr>
            <p:spPr>
              <a:xfrm>
                <a:off x="3429000" y="5638680"/>
                <a:ext cx="28926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16"/>
              <p:cNvSpPr txBox="1"/>
              <p:nvPr/>
            </p:nvSpPr>
            <p:spPr>
              <a:xfrm>
                <a:off x="3413160" y="7467480"/>
                <a:ext cx="16336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615960" y="53352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5"/>
              <p:cNvSpPr txBox="1"/>
              <p:nvPr/>
            </p:nvSpPr>
            <p:spPr>
              <a:xfrm>
                <a:off x="0" y="6858000"/>
                <a:ext cx="27795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380880" y="1219320"/>
                <a:ext cx="21621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8"/>
              <p:cNvSpPr txBox="1"/>
              <p:nvPr/>
            </p:nvSpPr>
            <p:spPr>
              <a:xfrm>
                <a:off x="3124080" y="6248520"/>
                <a:ext cx="26956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5"/>
              <p:cNvSpPr txBox="1"/>
              <p:nvPr/>
            </p:nvSpPr>
            <p:spPr>
              <a:xfrm>
                <a:off x="380880" y="2209680"/>
                <a:ext cx="586764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9"/>
              <p:cNvSpPr txBox="1"/>
              <p:nvPr/>
            </p:nvSpPr>
            <p:spPr>
              <a:xfrm>
                <a:off x="3502080" y="4419720"/>
                <a:ext cx="33559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2590920" y="1295280"/>
                <a:ext cx="29876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1"/>
              <p:cNvSpPr txBox="1"/>
              <p:nvPr/>
            </p:nvSpPr>
            <p:spPr>
              <a:xfrm>
                <a:off x="0" y="4648320"/>
                <a:ext cx="294624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LVING QUADRATIC EQU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935640" y="2209680"/>
            <a:ext cx="18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1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934440" y="2209680"/>
            <a:ext cx="201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21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3925800" y="4648320"/>
            <a:ext cx="234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5 = 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655560" y="4419720"/>
            <a:ext cx="22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5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62120" y="3048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=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3"/>
              <p:cNvSpPr txBox="1"/>
              <p:nvPr/>
            </p:nvSpPr>
            <p:spPr>
              <a:xfrm>
                <a:off x="3886200" y="2057400"/>
                <a:ext cx="1042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4"/>
              <p:cNvSpPr txBox="1"/>
              <p:nvPr/>
            </p:nvSpPr>
            <p:spPr>
              <a:xfrm>
                <a:off x="4952880" y="1981080"/>
                <a:ext cx="1043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Rectangle 12"/>
          <p:cNvSpPr/>
          <p:nvPr/>
        </p:nvSpPr>
        <p:spPr>
          <a:xfrm>
            <a:off x="4213440" y="32004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038480" y="3809880"/>
            <a:ext cx="17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=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7"/>
              <p:cNvSpPr txBox="1"/>
              <p:nvPr/>
            </p:nvSpPr>
            <p:spPr>
              <a:xfrm>
                <a:off x="304920" y="4267080"/>
                <a:ext cx="161280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1752480" y="4267080"/>
                <a:ext cx="161316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Rectangle 16"/>
          <p:cNvSpPr/>
          <p:nvPr/>
        </p:nvSpPr>
        <p:spPr>
          <a:xfrm>
            <a:off x="649800" y="5334120"/>
            <a:ext cx="17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1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683280" y="60199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=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9"/>
              <p:cNvSpPr txBox="1"/>
              <p:nvPr/>
            </p:nvSpPr>
            <p:spPr>
              <a:xfrm>
                <a:off x="4343400" y="5029200"/>
                <a:ext cx="12304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5334120" y="5029200"/>
                <a:ext cx="12301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20"/>
          <p:cNvSpPr/>
          <p:nvPr/>
        </p:nvSpPr>
        <p:spPr>
          <a:xfrm>
            <a:off x="4626360" y="5638680"/>
            <a:ext cx="15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1"/>
              <p:cNvSpPr txBox="1"/>
              <p:nvPr/>
            </p:nvSpPr>
            <p:spPr>
              <a:xfrm>
                <a:off x="4419720" y="5562720"/>
                <a:ext cx="1042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2"/>
              <p:cNvSpPr txBox="1"/>
              <p:nvPr/>
            </p:nvSpPr>
            <p:spPr>
              <a:xfrm>
                <a:off x="5410080" y="5562720"/>
                <a:ext cx="1043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Rectangle 23"/>
          <p:cNvSpPr/>
          <p:nvPr/>
        </p:nvSpPr>
        <p:spPr>
          <a:xfrm>
            <a:off x="4584960" y="670572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4566960" y="7315200"/>
            <a:ext cx="96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=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5181480" y="7238880"/>
                <a:ext cx="14302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0" name="Rectangle 26"/>
          <p:cNvSpPr/>
          <p:nvPr/>
        </p:nvSpPr>
        <p:spPr>
          <a:xfrm>
            <a:off x="4643280" y="8229600"/>
            <a:ext cx="96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=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4"/>
              <p:cNvSpPr txBox="1"/>
              <p:nvPr/>
            </p:nvSpPr>
            <p:spPr>
              <a:xfrm>
                <a:off x="5334120" y="8077320"/>
                <a:ext cx="1035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2" name="Ink 2"/>
          <p:cNvSpPr/>
          <p:nvPr/>
        </p:nvSpPr>
        <p:spPr>
          <a:xfrm>
            <a:off x="685800" y="2286000"/>
            <a:ext cx="1928880" cy="476280"/>
          </a:xfrm>
          <a:custGeom>
            <a:avLst/>
            <a:gdLst/>
            <a:ahLst/>
            <a:rect l="l" t="t" r="r" b="b"/>
            <a:pathLst>
              <a:path w="5359" h="1324">
                <a:moveTo>
                  <a:pt x="2183" y="6648"/>
                </a:moveTo>
                <a:cubicBezTo>
                  <a:pt x="2190" y="6702"/>
                  <a:pt x="2195" y="6734"/>
                  <a:pt x="2216" y="6780"/>
                </a:cubicBezTo>
                <a:cubicBezTo>
                  <a:pt x="2238" y="6829"/>
                  <a:pt x="2266" y="6860"/>
                  <a:pt x="2282" y="6912"/>
                </a:cubicBezTo>
                <a:cubicBezTo>
                  <a:pt x="2282" y="6923"/>
                  <a:pt x="2282" y="6934"/>
                  <a:pt x="2282" y="6945"/>
                </a:cubicBezTo>
                <a:cubicBezTo>
                  <a:pt x="2309" y="6965"/>
                  <a:pt x="2321" y="6958"/>
                  <a:pt x="2348" y="6978"/>
                </a:cubicBezTo>
                <a:cubicBezTo>
                  <a:pt x="2373" y="7021"/>
                  <a:pt x="2361" y="7020"/>
                  <a:pt x="2381" y="7078"/>
                </a:cubicBezTo>
                <a:cubicBezTo>
                  <a:pt x="2383" y="7083"/>
                  <a:pt x="2413" y="7209"/>
                  <a:pt x="2414" y="7210"/>
                </a:cubicBezTo>
                <a:cubicBezTo>
                  <a:pt x="2444" y="7240"/>
                  <a:pt x="2450" y="7251"/>
                  <a:pt x="2480" y="7243"/>
                </a:cubicBezTo>
                <a:cubicBezTo>
                  <a:pt x="2486" y="7293"/>
                  <a:pt x="2508" y="7339"/>
                  <a:pt x="2514" y="7375"/>
                </a:cubicBezTo>
                <a:cubicBezTo>
                  <a:pt x="2514" y="7408"/>
                  <a:pt x="2514" y="7419"/>
                  <a:pt x="2514" y="7441"/>
                </a:cubicBezTo>
                <a:cubicBezTo>
                  <a:pt x="2540" y="7476"/>
                  <a:pt x="2536" y="7440"/>
                  <a:pt x="2547" y="7508"/>
                </a:cubicBezTo>
                <a:cubicBezTo>
                  <a:pt x="2560" y="7524"/>
                  <a:pt x="2603" y="7564"/>
                  <a:pt x="2613" y="7607"/>
                </a:cubicBezTo>
                <a:cubicBezTo>
                  <a:pt x="2613" y="7640"/>
                  <a:pt x="2613" y="7651"/>
                  <a:pt x="2613" y="7673"/>
                </a:cubicBezTo>
                <a:cubicBezTo>
                  <a:pt x="2619" y="7624"/>
                  <a:pt x="2640" y="7577"/>
                  <a:pt x="2646" y="7541"/>
                </a:cubicBezTo>
                <a:cubicBezTo>
                  <a:pt x="2659" y="7465"/>
                  <a:pt x="2668" y="7373"/>
                  <a:pt x="2679" y="7309"/>
                </a:cubicBezTo>
                <a:cubicBezTo>
                  <a:pt x="2684" y="7277"/>
                  <a:pt x="2675" y="7242"/>
                  <a:pt x="2679" y="7210"/>
                </a:cubicBezTo>
                <a:cubicBezTo>
                  <a:pt x="2698" y="7178"/>
                  <a:pt x="2708" y="7180"/>
                  <a:pt x="2712" y="7111"/>
                </a:cubicBezTo>
                <a:cubicBezTo>
                  <a:pt x="2715" y="7067"/>
                  <a:pt x="2712" y="7022"/>
                  <a:pt x="2712" y="6978"/>
                </a:cubicBezTo>
                <a:cubicBezTo>
                  <a:pt x="2731" y="6946"/>
                  <a:pt x="2741" y="6948"/>
                  <a:pt x="2745" y="6879"/>
                </a:cubicBezTo>
                <a:cubicBezTo>
                  <a:pt x="2755" y="6704"/>
                  <a:pt x="2745" y="6525"/>
                  <a:pt x="2745" y="6350"/>
                </a:cubicBezTo>
                <a:cubicBezTo>
                  <a:pt x="3263" y="6350"/>
                  <a:pt x="3781" y="6350"/>
                  <a:pt x="4299" y="6350"/>
                </a:cubicBezTo>
              </a:path>
              <a:path w="5359" h="1324">
                <a:moveTo>
                  <a:pt x="5159" y="6383"/>
                </a:moveTo>
                <a:cubicBezTo>
                  <a:pt x="5165" y="6427"/>
                  <a:pt x="5183" y="6439"/>
                  <a:pt x="5192" y="6482"/>
                </a:cubicBezTo>
                <a:cubicBezTo>
                  <a:pt x="5200" y="6524"/>
                  <a:pt x="5221" y="6585"/>
                  <a:pt x="5226" y="6615"/>
                </a:cubicBezTo>
                <a:cubicBezTo>
                  <a:pt x="5234" y="6665"/>
                  <a:pt x="5234" y="6706"/>
                  <a:pt x="5259" y="6747"/>
                </a:cubicBezTo>
                <a:cubicBezTo>
                  <a:pt x="5285" y="6789"/>
                  <a:pt x="5272" y="6789"/>
                  <a:pt x="5292" y="6846"/>
                </a:cubicBezTo>
                <a:cubicBezTo>
                  <a:pt x="5306" y="6885"/>
                  <a:pt x="5308" y="6941"/>
                  <a:pt x="5325" y="6978"/>
                </a:cubicBezTo>
                <a:cubicBezTo>
                  <a:pt x="5338" y="7005"/>
                  <a:pt x="5378" y="6998"/>
                  <a:pt x="5391" y="7045"/>
                </a:cubicBezTo>
                <a:cubicBezTo>
                  <a:pt x="5406" y="7097"/>
                  <a:pt x="5417" y="7200"/>
                  <a:pt x="5424" y="7243"/>
                </a:cubicBezTo>
                <a:cubicBezTo>
                  <a:pt x="5434" y="7306"/>
                  <a:pt x="5453" y="7421"/>
                  <a:pt x="5457" y="7441"/>
                </a:cubicBezTo>
                <a:cubicBezTo>
                  <a:pt x="5470" y="7508"/>
                  <a:pt x="5457" y="7519"/>
                  <a:pt x="5457" y="7441"/>
                </a:cubicBezTo>
                <a:cubicBezTo>
                  <a:pt x="5457" y="7372"/>
                  <a:pt x="5481" y="7328"/>
                  <a:pt x="5490" y="7276"/>
                </a:cubicBezTo>
                <a:cubicBezTo>
                  <a:pt x="5516" y="7120"/>
                  <a:pt x="5389" y="6432"/>
                  <a:pt x="5523" y="6350"/>
                </a:cubicBezTo>
                <a:cubicBezTo>
                  <a:pt x="5766" y="6200"/>
                  <a:pt x="6779" y="6337"/>
                  <a:pt x="7011" y="6383"/>
                </a:cubicBezTo>
                <a:cubicBezTo>
                  <a:pt x="7063" y="6393"/>
                  <a:pt x="7136" y="6409"/>
                  <a:pt x="7177" y="6416"/>
                </a:cubicBezTo>
                <a:cubicBezTo>
                  <a:pt x="7250" y="6428"/>
                  <a:pt x="7378" y="6443"/>
                  <a:pt x="7408" y="6449"/>
                </a:cubicBezTo>
                <a:cubicBezTo>
                  <a:pt x="7446" y="6457"/>
                  <a:pt x="7501" y="6449"/>
                  <a:pt x="7541" y="6449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29"/>
          <p:cNvSpPr/>
          <p:nvPr/>
        </p:nvSpPr>
        <p:spPr>
          <a:xfrm>
            <a:off x="3987720" y="3227400"/>
            <a:ext cx="1573200" cy="487440"/>
          </a:xfrm>
          <a:custGeom>
            <a:avLst/>
            <a:gdLst/>
            <a:ahLst/>
            <a:rect l="l" t="t" r="r" b="b"/>
            <a:pathLst>
              <a:path w="4367" h="1357">
                <a:moveTo>
                  <a:pt x="11079" y="9327"/>
                </a:moveTo>
                <a:cubicBezTo>
                  <a:pt x="11089" y="9337"/>
                  <a:pt x="11141" y="9385"/>
                  <a:pt x="11146" y="9393"/>
                </a:cubicBezTo>
                <a:cubicBezTo>
                  <a:pt x="11177" y="9442"/>
                  <a:pt x="11216" y="9496"/>
                  <a:pt x="11245" y="9525"/>
                </a:cubicBezTo>
                <a:cubicBezTo>
                  <a:pt x="11254" y="9534"/>
                  <a:pt x="11304" y="9596"/>
                  <a:pt x="11311" y="9624"/>
                </a:cubicBezTo>
                <a:cubicBezTo>
                  <a:pt x="11327" y="9691"/>
                  <a:pt x="11313" y="9695"/>
                  <a:pt x="11344" y="9757"/>
                </a:cubicBezTo>
                <a:cubicBezTo>
                  <a:pt x="11350" y="9768"/>
                  <a:pt x="11395" y="9820"/>
                  <a:pt x="11410" y="9856"/>
                </a:cubicBezTo>
                <a:cubicBezTo>
                  <a:pt x="11430" y="9904"/>
                  <a:pt x="11448" y="9980"/>
                  <a:pt x="11476" y="10021"/>
                </a:cubicBezTo>
                <a:cubicBezTo>
                  <a:pt x="11501" y="10057"/>
                  <a:pt x="11527" y="10076"/>
                  <a:pt x="11576" y="10120"/>
                </a:cubicBezTo>
                <a:cubicBezTo>
                  <a:pt x="11597" y="10139"/>
                  <a:pt x="11644" y="10209"/>
                  <a:pt x="11675" y="10253"/>
                </a:cubicBezTo>
                <a:cubicBezTo>
                  <a:pt x="11729" y="10329"/>
                  <a:pt x="11708" y="10321"/>
                  <a:pt x="11708" y="10220"/>
                </a:cubicBezTo>
                <a:cubicBezTo>
                  <a:pt x="11708" y="10083"/>
                  <a:pt x="11690" y="9941"/>
                  <a:pt x="11675" y="9823"/>
                </a:cubicBezTo>
                <a:cubicBezTo>
                  <a:pt x="11663" y="9731"/>
                  <a:pt x="11628" y="9230"/>
                  <a:pt x="11708" y="9194"/>
                </a:cubicBezTo>
                <a:cubicBezTo>
                  <a:pt x="11764" y="9169"/>
                  <a:pt x="11847" y="9180"/>
                  <a:pt x="11906" y="9161"/>
                </a:cubicBezTo>
                <a:cubicBezTo>
                  <a:pt x="11979" y="9138"/>
                  <a:pt x="11999" y="9132"/>
                  <a:pt x="12072" y="9128"/>
                </a:cubicBezTo>
                <a:cubicBezTo>
                  <a:pt x="12332" y="9114"/>
                  <a:pt x="12659" y="9127"/>
                  <a:pt x="12865" y="9161"/>
                </a:cubicBezTo>
                <a:cubicBezTo>
                  <a:pt x="12990" y="9182"/>
                  <a:pt x="13136" y="9161"/>
                  <a:pt x="13262" y="9161"/>
                </a:cubicBezTo>
              </a:path>
              <a:path w="4367" h="1357">
                <a:moveTo>
                  <a:pt x="13957" y="9029"/>
                </a:moveTo>
                <a:cubicBezTo>
                  <a:pt x="13957" y="9096"/>
                  <a:pt x="13986" y="9175"/>
                  <a:pt x="13990" y="9194"/>
                </a:cubicBezTo>
                <a:cubicBezTo>
                  <a:pt x="13999" y="9239"/>
                  <a:pt x="14016" y="9292"/>
                  <a:pt x="14023" y="9327"/>
                </a:cubicBezTo>
                <a:cubicBezTo>
                  <a:pt x="14033" y="9376"/>
                  <a:pt x="14031" y="9418"/>
                  <a:pt x="14056" y="9459"/>
                </a:cubicBezTo>
                <a:cubicBezTo>
                  <a:pt x="14090" y="9515"/>
                  <a:pt x="14085" y="9524"/>
                  <a:pt x="14089" y="9591"/>
                </a:cubicBezTo>
                <a:cubicBezTo>
                  <a:pt x="14093" y="9654"/>
                  <a:pt x="14119" y="9740"/>
                  <a:pt x="14122" y="9757"/>
                </a:cubicBezTo>
                <a:cubicBezTo>
                  <a:pt x="14131" y="9800"/>
                  <a:pt x="14146" y="9813"/>
                  <a:pt x="14155" y="9856"/>
                </a:cubicBezTo>
                <a:cubicBezTo>
                  <a:pt x="14168" y="9920"/>
                  <a:pt x="14164" y="9910"/>
                  <a:pt x="14188" y="9955"/>
                </a:cubicBezTo>
                <a:cubicBezTo>
                  <a:pt x="14208" y="9993"/>
                  <a:pt x="14202" y="10050"/>
                  <a:pt x="14221" y="10087"/>
                </a:cubicBezTo>
                <a:cubicBezTo>
                  <a:pt x="14232" y="10098"/>
                  <a:pt x="14243" y="10109"/>
                  <a:pt x="14254" y="10120"/>
                </a:cubicBezTo>
                <a:cubicBezTo>
                  <a:pt x="14254" y="10040"/>
                  <a:pt x="14234" y="9986"/>
                  <a:pt x="14221" y="9922"/>
                </a:cubicBezTo>
                <a:cubicBezTo>
                  <a:pt x="14182" y="9729"/>
                  <a:pt x="14163" y="9230"/>
                  <a:pt x="14254" y="9062"/>
                </a:cubicBezTo>
                <a:cubicBezTo>
                  <a:pt x="14283" y="9009"/>
                  <a:pt x="14286" y="8979"/>
                  <a:pt x="14354" y="8963"/>
                </a:cubicBezTo>
                <a:cubicBezTo>
                  <a:pt x="14512" y="8926"/>
                  <a:pt x="14698" y="8981"/>
                  <a:pt x="14850" y="8996"/>
                </a:cubicBezTo>
                <a:cubicBezTo>
                  <a:pt x="15043" y="9015"/>
                  <a:pt x="15250" y="8996"/>
                  <a:pt x="15445" y="899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30"/>
          <p:cNvSpPr/>
          <p:nvPr/>
        </p:nvSpPr>
        <p:spPr>
          <a:xfrm>
            <a:off x="4952880" y="3886200"/>
            <a:ext cx="631800" cy="441360"/>
          </a:xfrm>
          <a:custGeom>
            <a:avLst/>
            <a:gdLst/>
            <a:ahLst/>
            <a:rect l="l" t="t" r="r" b="b"/>
            <a:pathLst>
              <a:path w="1754" h="1225">
                <a:moveTo>
                  <a:pt x="13791" y="10782"/>
                </a:moveTo>
                <a:cubicBezTo>
                  <a:pt x="13791" y="10880"/>
                  <a:pt x="13771" y="10994"/>
                  <a:pt x="13824" y="11079"/>
                </a:cubicBezTo>
                <a:cubicBezTo>
                  <a:pt x="13848" y="11118"/>
                  <a:pt x="13922" y="11238"/>
                  <a:pt x="13924" y="11245"/>
                </a:cubicBezTo>
                <a:cubicBezTo>
                  <a:pt x="13942" y="11298"/>
                  <a:pt x="13977" y="11394"/>
                  <a:pt x="13990" y="11443"/>
                </a:cubicBezTo>
                <a:cubicBezTo>
                  <a:pt x="14008" y="11510"/>
                  <a:pt x="14018" y="11587"/>
                  <a:pt x="14056" y="11642"/>
                </a:cubicBezTo>
                <a:cubicBezTo>
                  <a:pt x="14088" y="11689"/>
                  <a:pt x="14120" y="11735"/>
                  <a:pt x="14155" y="11774"/>
                </a:cubicBezTo>
                <a:cubicBezTo>
                  <a:pt x="14178" y="11800"/>
                  <a:pt x="14164" y="11845"/>
                  <a:pt x="14188" y="11873"/>
                </a:cubicBezTo>
                <a:cubicBezTo>
                  <a:pt x="14199" y="11873"/>
                  <a:pt x="14210" y="11873"/>
                  <a:pt x="14221" y="11873"/>
                </a:cubicBezTo>
                <a:cubicBezTo>
                  <a:pt x="14240" y="11841"/>
                  <a:pt x="14250" y="11843"/>
                  <a:pt x="14254" y="11774"/>
                </a:cubicBezTo>
                <a:cubicBezTo>
                  <a:pt x="14266" y="11566"/>
                  <a:pt x="14246" y="11300"/>
                  <a:pt x="14221" y="11146"/>
                </a:cubicBezTo>
                <a:cubicBezTo>
                  <a:pt x="14192" y="10971"/>
                  <a:pt x="14051" y="10633"/>
                  <a:pt x="14221" y="10683"/>
                </a:cubicBezTo>
                <a:cubicBezTo>
                  <a:pt x="14299" y="10706"/>
                  <a:pt x="14371" y="10759"/>
                  <a:pt x="14453" y="10782"/>
                </a:cubicBezTo>
                <a:cubicBezTo>
                  <a:pt x="14574" y="10816"/>
                  <a:pt x="14756" y="10797"/>
                  <a:pt x="14883" y="10815"/>
                </a:cubicBezTo>
                <a:cubicBezTo>
                  <a:pt x="14998" y="10831"/>
                  <a:pt x="15108" y="10875"/>
                  <a:pt x="15214" y="10881"/>
                </a:cubicBezTo>
                <a:cubicBezTo>
                  <a:pt x="15325" y="10888"/>
                  <a:pt x="15415" y="10885"/>
                  <a:pt x="15511" y="10914"/>
                </a:cubicBezTo>
                <a:cubicBezTo>
                  <a:pt x="15522" y="10914"/>
                  <a:pt x="15533" y="10914"/>
                  <a:pt x="15544" y="1091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31"/>
          <p:cNvSpPr/>
          <p:nvPr/>
        </p:nvSpPr>
        <p:spPr>
          <a:xfrm>
            <a:off x="380880" y="5334120"/>
            <a:ext cx="1573200" cy="487080"/>
          </a:xfrm>
          <a:custGeom>
            <a:avLst/>
            <a:gdLst/>
            <a:ahLst/>
            <a:rect l="l" t="t" r="r" b="b"/>
            <a:pathLst>
              <a:path w="4367" h="1357">
                <a:moveTo>
                  <a:pt x="11079" y="9327"/>
                </a:moveTo>
                <a:cubicBezTo>
                  <a:pt x="11089" y="9337"/>
                  <a:pt x="11141" y="9385"/>
                  <a:pt x="11146" y="9393"/>
                </a:cubicBezTo>
                <a:cubicBezTo>
                  <a:pt x="11177" y="9442"/>
                  <a:pt x="11216" y="9496"/>
                  <a:pt x="11245" y="9525"/>
                </a:cubicBezTo>
                <a:cubicBezTo>
                  <a:pt x="11254" y="9534"/>
                  <a:pt x="11304" y="9596"/>
                  <a:pt x="11311" y="9624"/>
                </a:cubicBezTo>
                <a:cubicBezTo>
                  <a:pt x="11327" y="9691"/>
                  <a:pt x="11313" y="9695"/>
                  <a:pt x="11344" y="9757"/>
                </a:cubicBezTo>
                <a:cubicBezTo>
                  <a:pt x="11350" y="9768"/>
                  <a:pt x="11395" y="9820"/>
                  <a:pt x="11410" y="9856"/>
                </a:cubicBezTo>
                <a:cubicBezTo>
                  <a:pt x="11430" y="9904"/>
                  <a:pt x="11448" y="9980"/>
                  <a:pt x="11476" y="10021"/>
                </a:cubicBezTo>
                <a:cubicBezTo>
                  <a:pt x="11501" y="10057"/>
                  <a:pt x="11527" y="10076"/>
                  <a:pt x="11576" y="10120"/>
                </a:cubicBezTo>
                <a:cubicBezTo>
                  <a:pt x="11597" y="10139"/>
                  <a:pt x="11644" y="10209"/>
                  <a:pt x="11675" y="10253"/>
                </a:cubicBezTo>
                <a:cubicBezTo>
                  <a:pt x="11729" y="10329"/>
                  <a:pt x="11708" y="10321"/>
                  <a:pt x="11708" y="10220"/>
                </a:cubicBezTo>
                <a:cubicBezTo>
                  <a:pt x="11708" y="10083"/>
                  <a:pt x="11690" y="9941"/>
                  <a:pt x="11675" y="9823"/>
                </a:cubicBezTo>
                <a:cubicBezTo>
                  <a:pt x="11663" y="9731"/>
                  <a:pt x="11628" y="9230"/>
                  <a:pt x="11708" y="9194"/>
                </a:cubicBezTo>
                <a:cubicBezTo>
                  <a:pt x="11764" y="9169"/>
                  <a:pt x="11847" y="9180"/>
                  <a:pt x="11906" y="9161"/>
                </a:cubicBezTo>
                <a:cubicBezTo>
                  <a:pt x="11979" y="9138"/>
                  <a:pt x="11999" y="9132"/>
                  <a:pt x="12072" y="9128"/>
                </a:cubicBezTo>
                <a:cubicBezTo>
                  <a:pt x="12332" y="9114"/>
                  <a:pt x="12659" y="9127"/>
                  <a:pt x="12865" y="9161"/>
                </a:cubicBezTo>
                <a:cubicBezTo>
                  <a:pt x="12990" y="9182"/>
                  <a:pt x="13136" y="9161"/>
                  <a:pt x="13262" y="9161"/>
                </a:cubicBezTo>
              </a:path>
              <a:path w="4367" h="1357">
                <a:moveTo>
                  <a:pt x="13957" y="9029"/>
                </a:moveTo>
                <a:cubicBezTo>
                  <a:pt x="13957" y="9096"/>
                  <a:pt x="13986" y="9175"/>
                  <a:pt x="13990" y="9194"/>
                </a:cubicBezTo>
                <a:cubicBezTo>
                  <a:pt x="13999" y="9239"/>
                  <a:pt x="14016" y="9292"/>
                  <a:pt x="14023" y="9327"/>
                </a:cubicBezTo>
                <a:cubicBezTo>
                  <a:pt x="14033" y="9376"/>
                  <a:pt x="14031" y="9418"/>
                  <a:pt x="14056" y="9459"/>
                </a:cubicBezTo>
                <a:cubicBezTo>
                  <a:pt x="14090" y="9515"/>
                  <a:pt x="14085" y="9524"/>
                  <a:pt x="14089" y="9591"/>
                </a:cubicBezTo>
                <a:cubicBezTo>
                  <a:pt x="14093" y="9654"/>
                  <a:pt x="14119" y="9740"/>
                  <a:pt x="14122" y="9757"/>
                </a:cubicBezTo>
                <a:cubicBezTo>
                  <a:pt x="14131" y="9800"/>
                  <a:pt x="14146" y="9813"/>
                  <a:pt x="14155" y="9856"/>
                </a:cubicBezTo>
                <a:cubicBezTo>
                  <a:pt x="14168" y="9920"/>
                  <a:pt x="14164" y="9910"/>
                  <a:pt x="14188" y="9955"/>
                </a:cubicBezTo>
                <a:cubicBezTo>
                  <a:pt x="14208" y="9993"/>
                  <a:pt x="14202" y="10050"/>
                  <a:pt x="14221" y="10087"/>
                </a:cubicBezTo>
                <a:cubicBezTo>
                  <a:pt x="14232" y="10098"/>
                  <a:pt x="14243" y="10109"/>
                  <a:pt x="14254" y="10120"/>
                </a:cubicBezTo>
                <a:cubicBezTo>
                  <a:pt x="14254" y="10040"/>
                  <a:pt x="14234" y="9986"/>
                  <a:pt x="14221" y="9922"/>
                </a:cubicBezTo>
                <a:cubicBezTo>
                  <a:pt x="14182" y="9729"/>
                  <a:pt x="14163" y="9230"/>
                  <a:pt x="14254" y="9062"/>
                </a:cubicBezTo>
                <a:cubicBezTo>
                  <a:pt x="14283" y="9009"/>
                  <a:pt x="14286" y="8979"/>
                  <a:pt x="14354" y="8963"/>
                </a:cubicBezTo>
                <a:cubicBezTo>
                  <a:pt x="14512" y="8926"/>
                  <a:pt x="14698" y="8981"/>
                  <a:pt x="14850" y="8996"/>
                </a:cubicBezTo>
                <a:cubicBezTo>
                  <a:pt x="15043" y="9015"/>
                  <a:pt x="15250" y="8996"/>
                  <a:pt x="15445" y="8996"/>
                </a:cubicBezTo>
              </a:path>
            </a:pathLst>
          </a:custGeom>
          <a:noFill/>
          <a:ln cap="rnd"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32"/>
          <p:cNvSpPr/>
          <p:nvPr/>
        </p:nvSpPr>
        <p:spPr>
          <a:xfrm>
            <a:off x="4343400" y="6705720"/>
            <a:ext cx="1420920" cy="487080"/>
          </a:xfrm>
          <a:custGeom>
            <a:avLst/>
            <a:gdLst/>
            <a:ahLst/>
            <a:rect l="l" t="t" r="r" b="b"/>
            <a:pathLst>
              <a:path w="4367" h="1357">
                <a:moveTo>
                  <a:pt x="11079" y="9327"/>
                </a:moveTo>
                <a:cubicBezTo>
                  <a:pt x="11089" y="9337"/>
                  <a:pt x="11141" y="9385"/>
                  <a:pt x="11146" y="9393"/>
                </a:cubicBezTo>
                <a:cubicBezTo>
                  <a:pt x="11177" y="9442"/>
                  <a:pt x="11216" y="9496"/>
                  <a:pt x="11245" y="9525"/>
                </a:cubicBezTo>
                <a:cubicBezTo>
                  <a:pt x="11254" y="9534"/>
                  <a:pt x="11304" y="9596"/>
                  <a:pt x="11311" y="9624"/>
                </a:cubicBezTo>
                <a:cubicBezTo>
                  <a:pt x="11327" y="9691"/>
                  <a:pt x="11313" y="9695"/>
                  <a:pt x="11344" y="9757"/>
                </a:cubicBezTo>
                <a:cubicBezTo>
                  <a:pt x="11350" y="9768"/>
                  <a:pt x="11395" y="9820"/>
                  <a:pt x="11410" y="9856"/>
                </a:cubicBezTo>
                <a:cubicBezTo>
                  <a:pt x="11430" y="9904"/>
                  <a:pt x="11448" y="9980"/>
                  <a:pt x="11476" y="10021"/>
                </a:cubicBezTo>
                <a:cubicBezTo>
                  <a:pt x="11501" y="10057"/>
                  <a:pt x="11527" y="10076"/>
                  <a:pt x="11576" y="10120"/>
                </a:cubicBezTo>
                <a:cubicBezTo>
                  <a:pt x="11597" y="10139"/>
                  <a:pt x="11644" y="10209"/>
                  <a:pt x="11675" y="10253"/>
                </a:cubicBezTo>
                <a:cubicBezTo>
                  <a:pt x="11729" y="10329"/>
                  <a:pt x="11708" y="10321"/>
                  <a:pt x="11708" y="10220"/>
                </a:cubicBezTo>
                <a:cubicBezTo>
                  <a:pt x="11708" y="10083"/>
                  <a:pt x="11690" y="9941"/>
                  <a:pt x="11675" y="9823"/>
                </a:cubicBezTo>
                <a:cubicBezTo>
                  <a:pt x="11663" y="9731"/>
                  <a:pt x="11628" y="9230"/>
                  <a:pt x="11708" y="9194"/>
                </a:cubicBezTo>
                <a:cubicBezTo>
                  <a:pt x="11764" y="9169"/>
                  <a:pt x="11847" y="9180"/>
                  <a:pt x="11906" y="9161"/>
                </a:cubicBezTo>
                <a:cubicBezTo>
                  <a:pt x="11979" y="9138"/>
                  <a:pt x="11999" y="9132"/>
                  <a:pt x="12072" y="9128"/>
                </a:cubicBezTo>
                <a:cubicBezTo>
                  <a:pt x="12332" y="9114"/>
                  <a:pt x="12659" y="9127"/>
                  <a:pt x="12865" y="9161"/>
                </a:cubicBezTo>
                <a:cubicBezTo>
                  <a:pt x="12990" y="9182"/>
                  <a:pt x="13136" y="9161"/>
                  <a:pt x="13262" y="9161"/>
                </a:cubicBezTo>
              </a:path>
              <a:path w="4367" h="1357">
                <a:moveTo>
                  <a:pt x="13957" y="9029"/>
                </a:moveTo>
                <a:cubicBezTo>
                  <a:pt x="13957" y="9096"/>
                  <a:pt x="13986" y="9175"/>
                  <a:pt x="13990" y="9194"/>
                </a:cubicBezTo>
                <a:cubicBezTo>
                  <a:pt x="13999" y="9239"/>
                  <a:pt x="14016" y="9292"/>
                  <a:pt x="14023" y="9327"/>
                </a:cubicBezTo>
                <a:cubicBezTo>
                  <a:pt x="14033" y="9376"/>
                  <a:pt x="14031" y="9418"/>
                  <a:pt x="14056" y="9459"/>
                </a:cubicBezTo>
                <a:cubicBezTo>
                  <a:pt x="14090" y="9515"/>
                  <a:pt x="14085" y="9524"/>
                  <a:pt x="14089" y="9591"/>
                </a:cubicBezTo>
                <a:cubicBezTo>
                  <a:pt x="14093" y="9654"/>
                  <a:pt x="14119" y="9740"/>
                  <a:pt x="14122" y="9757"/>
                </a:cubicBezTo>
                <a:cubicBezTo>
                  <a:pt x="14131" y="9800"/>
                  <a:pt x="14146" y="9813"/>
                  <a:pt x="14155" y="9856"/>
                </a:cubicBezTo>
                <a:cubicBezTo>
                  <a:pt x="14168" y="9920"/>
                  <a:pt x="14164" y="9910"/>
                  <a:pt x="14188" y="9955"/>
                </a:cubicBezTo>
                <a:cubicBezTo>
                  <a:pt x="14208" y="9993"/>
                  <a:pt x="14202" y="10050"/>
                  <a:pt x="14221" y="10087"/>
                </a:cubicBezTo>
                <a:cubicBezTo>
                  <a:pt x="14232" y="10098"/>
                  <a:pt x="14243" y="10109"/>
                  <a:pt x="14254" y="10120"/>
                </a:cubicBezTo>
                <a:cubicBezTo>
                  <a:pt x="14254" y="10040"/>
                  <a:pt x="14234" y="9986"/>
                  <a:pt x="14221" y="9922"/>
                </a:cubicBezTo>
                <a:cubicBezTo>
                  <a:pt x="14182" y="9729"/>
                  <a:pt x="14163" y="9230"/>
                  <a:pt x="14254" y="9062"/>
                </a:cubicBezTo>
                <a:cubicBezTo>
                  <a:pt x="14283" y="9009"/>
                  <a:pt x="14286" y="8979"/>
                  <a:pt x="14354" y="8963"/>
                </a:cubicBezTo>
                <a:cubicBezTo>
                  <a:pt x="14512" y="8926"/>
                  <a:pt x="14698" y="8981"/>
                  <a:pt x="14850" y="8996"/>
                </a:cubicBezTo>
                <a:cubicBezTo>
                  <a:pt x="15043" y="9015"/>
                  <a:pt x="15250" y="8996"/>
                  <a:pt x="15445" y="8996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3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en an object is </a:t>
            </a:r>
            <a:r>
              <a:rPr b="1" lang="en-US" sz="3200" spc="-1" strike="noStrike">
                <a:solidFill>
                  <a:srgbClr val="7030a0"/>
                </a:solidFill>
                <a:latin typeface="Century Gothic"/>
              </a:rPr>
              <a:t>dropped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, is speed continually increases, and therefore its height above the ground decreases at a faster and faster rate.  The height, h, of the object t seconds after it is dropped can be modeled by the function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3049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DELING FALLING OBJECT’S HEIGHT WITH QUADR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5715000"/>
            <a:ext cx="685800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 = -16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 = -5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here 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Gothic"/>
              </a:rPr>
              <a:t>o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is the objects initial he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. 266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stunt man working on the set of a movie is to fall out of a window 153 feet above the ground.  For the stunt man’s safety, an air cushion 26 feet wide by 30 feet long by 9 feet high is positioned on the ground below the window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5410080"/>
            <a:ext cx="6858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how many seconds will the stunt man fall before he reaches the cush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15440" y="7010280"/>
            <a:ext cx="5482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Century Gothic"/>
              </a:rPr>
              <a:t>What are you asked to fi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48560" y="7620120"/>
            <a:ext cx="62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Century Gothic"/>
              </a:rPr>
              <a:t>What function are going to u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5715000" y="7010280"/>
            <a:ext cx="94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3841560" y="8153280"/>
            <a:ext cx="2654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 = -16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0:31:33Z</dcterms:created>
  <dc:creator>sraja</dc:creator>
  <dc:description/>
  <dc:language>en-US</dc:language>
  <cp:lastModifiedBy>sraja</cp:lastModifiedBy>
  <dcterms:modified xsi:type="dcterms:W3CDTF">2010-11-24T19:44:44Z</dcterms:modified>
  <cp:revision>85</cp:revision>
  <dc:subject/>
  <dc:title>Slide 1</dc:title>
</cp:coreProperties>
</file>